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E52-A4DF-47F5-954C-061479E2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B25-3715-4F00-AF24-6D0C41B6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D52-580A-4998-8B3C-24B50903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BFB-E92B-4BC5-840A-54372075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C59-B56B-4CFB-BD1F-E2B78A58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7EF-EBF0-4C55-9C42-6E6AB1EE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3A2-BE37-4A1E-8BF1-C4F01E2C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7A0-BF25-4708-A776-CE83C662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E7B-CEBF-479B-860E-C64F37B4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D0E-CC8B-4E8C-B73C-266A235B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589-4EB9-4ED3-9F90-CB3D74BC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BAB-18E3-40CF-8591-2C4FEDE6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73CB-4E9B-4D8F-A8AC-09DF055313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C7D8-01F6-4F60-8A65-A44774A3A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tudent-Led Con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Strengths I brought to Galil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A pho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ttitude &amp;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 will be a different learner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I will face going back to mainstream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alileo – Initial thou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I learn bes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I work in a tea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Highl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fbfbf"/>
                </a:solidFill>
                <a:latin typeface="Calibri"/>
              </a:rPr>
              <a:t>(story/pho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fbfbf"/>
                </a:solidFill>
                <a:latin typeface="Calibri"/>
              </a:rPr>
              <a:t>(story/pho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goals (1 - skil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2 - knowled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3 – personal qu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Learning goals (4 – personal qual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(photos/evidence – trails, team project, community service, skills workshops/other c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erm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chievement Go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Achievement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eek 5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eek 10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Placeholder 3"/>
          <p:cNvSpPr/>
          <p:nvPr/>
        </p:nvSpPr>
        <p:spPr>
          <a:xfrm>
            <a:off x="4788000" y="1401840"/>
            <a:ext cx="40399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Attitude &amp; Effort 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k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k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2:55:12Z</dcterms:created>
  <dc:creator>mbobeff</dc:creator>
  <dc:description/>
  <dc:language>en-US</dc:language>
  <cp:lastModifiedBy>Christopher MCCAW</cp:lastModifiedBy>
  <dcterms:modified xsi:type="dcterms:W3CDTF">2012-09-14T00:21:03Z</dcterms:modified>
  <cp:revision>11</cp:revision>
  <dc:subject/>
  <dc:title>Name</dc:title>
</cp:coreProperties>
</file>